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6871F-B5D3-49D3-A524-E5F492C71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1BE72-EAA0-40E4-BA40-8066666CE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3E7C-9055-4C59-90A9-5B875D09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66D11-0180-489E-9019-DBCE07455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149DE-EC47-409D-807F-1F72BE65C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EBCE5-EDAB-47F7-B475-2F7480C7A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5F2CB-719E-4F25-9EE5-A9510CE09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5F084-B541-4E71-B052-F5144E605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E683E-D665-4BD7-8797-4AF8C014F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576F4-A10D-4400-9C80-64667D8FA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770FD-35A6-483B-B297-5D5AEC4BA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D9561-D94C-42A0-AE96-ACD7B5872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BF57E-8A8A-474D-94E7-F86C619E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6DA9B-F067-4E58-8393-D1F0F191E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FA8CA-7194-45A1-84DF-B41568C2E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5E158-7FDC-4D3E-9FF9-6A395943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6367F-88C0-4C11-94C4-55B94A95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AB21D-D122-4E76-8875-AC981455F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EE04A-7D8B-45DA-9F16-A3D733C9E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2D1CC-99C9-4F74-A70C-6FAD9AF74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5E4A6-615F-4EDB-8E7A-5EE1D9E9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0BC2D-B92D-4587-A57A-5BEA5C5C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DD776-0B2A-400C-95EA-0D1F2061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5EDF6-BD07-4AB7-AF39-186FE9F8A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DDBEC-24B9-4354-8D2C-C6AF813EE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97AFD-3C62-42D2-894F-1043E1F6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68285-C048-4617-85F0-B0DAC30D2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1400E-ED36-433E-A49C-6AC37A8F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3F34-3A2C-4873-9695-45796FF3A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667E-8017-4BFA-96C6-8488EFA8E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BED2-C71A-4262-B79A-1A17EC090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9915-C8D5-425E-B3DB-FD3D0AD69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963E-7E3A-4EAB-AA47-146909C6D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5408-D608-4C7B-A58F-6B0D645D3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1282-D8EE-40D0-90AF-64AF9D0FC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35DF-DB19-4686-96ED-F4172657B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191C-A9A8-4DD7-AA22-5429D0A35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1678-1E02-4DBC-994C-B61A49D28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4AFF-B42A-415D-AD94-F4F47B580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8BDC-9569-4711-824A-E3840F37B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61D85-E0B5-422E-9F2D-0207FB3F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 what will happen if a bike goes down a hill, then coasts on a flat surface without the rider peddl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735120" y="914400"/>
            <a:ext cx="8915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iction is created when an object moves across the ground or another sur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635880" y="4770360"/>
            <a:ext cx="3276360" cy="243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16080" y="4694400"/>
            <a:ext cx="2277720" cy="251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031080" y="3087720"/>
            <a:ext cx="2743200" cy="173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2589120" y="3262320"/>
            <a:ext cx="2925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914400" y="685800"/>
            <a:ext cx="84582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iction is a force that makes moving objects st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913280" y="408456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99880" y="4087800"/>
            <a:ext cx="2454480" cy="304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059280" y="2052720"/>
            <a:ext cx="236196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914400" y="914400"/>
            <a:ext cx="84582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What force makes a car slow down when you stop acceler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85800" y="635040"/>
            <a:ext cx="89154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me surfaces make more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8360" y="4317840"/>
            <a:ext cx="2362320" cy="23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462480" y="4317840"/>
            <a:ext cx="2352600" cy="235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68360" y="172260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6283440" y="2179800"/>
            <a:ext cx="2338200" cy="190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40160" y="240336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6411960" y="4413240"/>
            <a:ext cx="288432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66528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f there is a lot of friction, that will make an object stop f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632560" y="4008600"/>
            <a:ext cx="3522600" cy="26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325520" y="3398760"/>
            <a:ext cx="2171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46240" y="457200"/>
            <a:ext cx="912636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decide if something will make a lot of fric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sk: Is it easy to slide on in my so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asy to slide on = LOW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78460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85800" y="665280"/>
            <a:ext cx="891540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dentify each surface as high friction or low fric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Gl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Carp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 Gra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sible Forc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 tomorro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gratulations _______ - there were 123 jolly ranchers in the ja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914400" y="685800"/>
            <a:ext cx="6413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't always see fo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508800" y="3246480"/>
            <a:ext cx="336060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830680" y="3665520"/>
            <a:ext cx="352404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63440" y="1874880"/>
            <a:ext cx="2433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14400" y="685800"/>
            <a:ext cx="86868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re are forces that are hard to 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Gr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Magne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85800" y="457200"/>
            <a:ext cx="9213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avity pulls objects towards the 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326360" y="1195560"/>
            <a:ext cx="2476440" cy="34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986440" y="4611600"/>
            <a:ext cx="3816360" cy="312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87480" y="4629240"/>
            <a:ext cx="3200400" cy="2620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592440" y="1671480"/>
            <a:ext cx="2543400" cy="447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266760" y="2027160"/>
            <a:ext cx="321300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85800" y="4572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avity is caused by the mass of the ear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100807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2280" y="152280"/>
            <a:ext cx="100807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5800" y="4389480"/>
            <a:ext cx="1565280" cy="23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077840" y="1874880"/>
            <a:ext cx="1981440" cy="201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5726160" y="1658880"/>
            <a:ext cx="3657600" cy="2720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6411960" y="5075280"/>
            <a:ext cx="297180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685800" y="457200"/>
            <a:ext cx="8686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etism pulls metal objects towards each o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49240" y="2062080"/>
            <a:ext cx="2895840" cy="266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694480" y="3246480"/>
            <a:ext cx="3460680" cy="231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2938320" y="5227560"/>
            <a:ext cx="233064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878040" y="109440"/>
            <a:ext cx="845820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You drop a watermelon off the roof of Oakhurs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Your magnet sticks to the fridg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 Sugar falls to the bottom of your gl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0:53:06Z</dcterms:created>
  <dc:creator>molly schumer</dc:creator>
  <dc:description/>
  <dc:language>en-US</dc:language>
  <cp:lastModifiedBy>Caroline Roth</cp:lastModifiedBy>
  <dcterms:modified xsi:type="dcterms:W3CDTF">2011-02-17T11:28:19Z</dcterms:modified>
  <cp:revision>9</cp:revision>
  <dc:subject/>
  <dc:title>PowerPoint Presentation</dc:title>
</cp:coreProperties>
</file>